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24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4064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4064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01580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40640"/>
            <a:ext cx="401580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35640" y="202680"/>
            <a:ext cx="685080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0640"/>
            <a:ext cx="401580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01580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24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24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4064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4064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01580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40640"/>
            <a:ext cx="401580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35640" y="202680"/>
            <a:ext cx="685080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40640"/>
            <a:ext cx="401580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015800" cy="478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0640"/>
            <a:ext cx="401580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24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"/>
          <p:cNvPicPr/>
          <p:nvPr/>
        </p:nvPicPr>
        <p:blipFill>
          <a:blip r:embed="rId2"/>
          <a:stretch/>
        </p:blipFill>
        <p:spPr>
          <a:xfrm>
            <a:off x="360" y="0"/>
            <a:ext cx="914256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6 Imagen" descr=""/>
          <p:cNvPicPr/>
          <p:nvPr/>
        </p:nvPicPr>
        <p:blipFill>
          <a:blip r:embed="rId3"/>
          <a:stretch/>
        </p:blipFill>
        <p:spPr>
          <a:xfrm>
            <a:off x="360" y="0"/>
            <a:ext cx="914256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92000" y="1410480"/>
            <a:ext cx="3672000" cy="425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Haga clic para modificar el estilo de título del patrón</a:t>
            </a:r>
            <a:endParaRPr b="0" lang="es-CO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CO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6 Imagen" descr=""/>
          <p:cNvPicPr/>
          <p:nvPr/>
        </p:nvPicPr>
        <p:blipFill>
          <a:blip r:embed="rId2"/>
          <a:stretch/>
        </p:blipFill>
        <p:spPr>
          <a:xfrm>
            <a:off x="360" y="0"/>
            <a:ext cx="914256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Haga clic para modificar el estilo de título del patrón</a:t>
            </a:r>
            <a:endParaRPr b="0" lang="es-CO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CO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CO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CO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92000" y="1410480"/>
            <a:ext cx="3672000" cy="425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s-CO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5640" y="202680"/>
            <a:ext cx="685080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s-CO" sz="2400" spc="-1" strike="noStrike">
              <a:solidFill>
                <a:schemeClr val="accent1">
                  <a:lumMod val="75000"/>
                </a:schemeClr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s-CO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resentacion_PR18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resentacion_PR18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esentacion_PR18</Template>
  <TotalTime>17</TotalTime>
  <Application>LibreOffice/7.4.7.2$Linux_X86_64 LibreOffice_project/40$Build-2</Application>
  <AppVersion>15.0000</AppVersion>
  <Words>0</Words>
  <Paragraphs>0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7T17:13:09Z</dcterms:created>
  <dc:creator>Carolina Giraldo</dc:creator>
  <dc:description/>
  <dc:language>en-US</dc:language>
  <cp:lastModifiedBy>SHILOH2013</cp:lastModifiedBy>
  <dcterms:modified xsi:type="dcterms:W3CDTF">2018-06-01T19:17:41Z</dcterms:modified>
  <cp:revision>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2</vt:r8>
  </property>
</Properties>
</file>