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69D-F77E-4C02-A15C-4EBFC638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DB7-A306-4284-9BAB-BE5EC9DE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16A-150C-429F-AC3F-6189575B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133-5050-4576-A239-A80F77D2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BDD6-6D25-4F04-AC0B-89B2457B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B7D6-B98A-435B-840B-6D25E6B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9339-A048-470D-A097-2D16C1C3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7303-07BC-4C8C-8FC7-D475D7F9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8D7-31B6-4A48-B5F8-5D169467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40D9-7DA1-4929-8F32-78B6F5F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2868-D4AC-4F0F-B85F-5530DB24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8F2-1EDA-4F5B-BA8C-63CCAD9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B42-49A7-46A5-AD34-AD9FFD4C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3387-5D45-417D-A7CC-70678A6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CB25-52A0-4E5C-BA33-1DEFA0D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72B3-B98B-4C09-8175-A624CC5C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51C5-20F8-4E33-913F-2D8CAAA0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B52-763D-4F56-BF8C-B6AD5014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F28-19C9-465C-B134-16E5D45F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C29-477B-4E9C-B42B-F481B3BF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804-9D0C-4583-B2E5-2FF8EBA7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8A2-F095-48A6-8FBD-2EAC68D5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072-53A7-487D-A189-71CA06D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0BB-DD62-4355-8EF6-C74D8620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P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03D099-3AA0-4394-BC34-E71EA10D5A05}" type="slidenum">
              <a:rPr b="0" lang="es-P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P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P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PA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PA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P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174DAA-D995-4E6C-A0E2-FB7A570613D9}" type="slidenum">
              <a:rPr b="0" lang="es-P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92000" y="1410480"/>
            <a:ext cx="3672000" cy="42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3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7000"/>
          </a:bodyPr>
          <a:p>
            <a:pPr indent="0">
              <a:buNone/>
            </a:pP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7T22:10:37Z</dcterms:created>
  <dc:creator>SHILOH2013</dc:creator>
  <dc:description/>
  <dc:language>en-US</dc:language>
  <cp:lastModifiedBy>SHILOH2013</cp:lastModifiedBy>
  <dcterms:modified xsi:type="dcterms:W3CDTF">2018-05-03T20:59:36Z</dcterms:modified>
  <cp:revision>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2</vt:r8>
  </property>
</Properties>
</file>